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19F-7314-4A59-8E43-6A1F5C37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68D-6EC2-492C-814F-24C43908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475-D8BF-481F-B98E-036B7A97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407-0B0D-45E5-A29B-A3D9573E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43D-3B96-4A0D-809B-B23F35B3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BB7-1161-43BE-A955-0C7E0485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57A-CE78-4F8E-975A-BF943A84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569-3D8D-4CF8-88C0-11C00587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04A-B3B2-43BC-9E0F-F311DB04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258-BB1E-431A-BB51-41A782AE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A83-EB79-4713-A7F3-AF30555E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245-0CCB-4F22-BE59-9DD86BD9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4B0A-DBC3-40C7-90D4-5C7E890459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7680" y="593640"/>
            <a:ext cx="9493200" cy="1135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汚染場所に関係者以外の人が近づかないようにします。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処理する時は、換気を十分に行ってくださ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処理を始める前に、使い捨て手袋とマスク、エプロンなどを着用してくださ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" descr="処理中の写真"/>
          <p:cNvPicPr/>
          <p:nvPr/>
        </p:nvPicPr>
        <p:blipFill>
          <a:blip r:embed="rId1"/>
          <a:stretch/>
        </p:blipFill>
        <p:spPr>
          <a:xfrm>
            <a:off x="914400" y="2743200"/>
            <a:ext cx="207648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4" descr="処理中の写真"/>
          <p:cNvPicPr/>
          <p:nvPr/>
        </p:nvPicPr>
        <p:blipFill>
          <a:blip r:embed="rId2"/>
          <a:stretch/>
        </p:blipFill>
        <p:spPr>
          <a:xfrm>
            <a:off x="4572000" y="274320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44" name="5" descr="処理中の写真"/>
          <p:cNvPicPr/>
          <p:nvPr/>
        </p:nvPicPr>
        <p:blipFill>
          <a:blip r:embed="rId3"/>
          <a:stretch/>
        </p:blipFill>
        <p:spPr>
          <a:xfrm>
            <a:off x="6858000" y="2743200"/>
            <a:ext cx="1752480" cy="1309680"/>
          </a:xfrm>
          <a:prstGeom prst="rect">
            <a:avLst/>
          </a:prstGeom>
          <a:ln w="0">
            <a:noFill/>
          </a:ln>
        </p:spPr>
      </p:pic>
      <p:pic>
        <p:nvPicPr>
          <p:cNvPr id="45" name="7" descr="処理中の写真"/>
          <p:cNvPicPr/>
          <p:nvPr/>
        </p:nvPicPr>
        <p:blipFill>
          <a:blip r:embed="rId4"/>
          <a:stretch/>
        </p:blipFill>
        <p:spPr>
          <a:xfrm>
            <a:off x="6705720" y="5105520"/>
            <a:ext cx="1981080" cy="132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7680" y="18288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おう吐物をペーパータオル等で、</a:t>
            </a:r>
            <a:r>
              <a:rPr b="1" lang="ja-JP" sz="1800" spc="-1" strike="noStrike">
                <a:solidFill>
                  <a:srgbClr val="ff00ff"/>
                </a:solidFill>
                <a:latin typeface="ＭＳ Ｐゴシック"/>
              </a:rPr>
              <a:t>外側から内側に向けて、静かにふき取ります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3760" y="1828800"/>
            <a:ext cx="60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ふき取りに使ったペーパータオル等は、ビニール袋に入れ、汚染物が十分に浸る量の次亜塩素酸ナトリウム（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0.1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％）を加え、</a:t>
            </a:r>
            <a:r>
              <a:rPr b="1" lang="ja-JP" sz="1800" spc="-1" strike="noStrike">
                <a:solidFill>
                  <a:srgbClr val="ff00ff"/>
                </a:solidFill>
                <a:latin typeface="ＭＳ Ｐゴシック"/>
              </a:rPr>
              <a:t>袋の口をしばり密閉します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4191120"/>
            <a:ext cx="52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おう吐物をふき取った場所は、次亜塩素酸ナトリウム（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0.1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％）をしみこませたペーパータオル等で</a:t>
            </a:r>
            <a:r>
              <a:rPr b="1" lang="ja-JP" sz="1800" spc="-1" strike="noStrike">
                <a:solidFill>
                  <a:srgbClr val="ff00ff"/>
                </a:solidFill>
                <a:latin typeface="ＭＳ Ｐゴシック"/>
              </a:rPr>
              <a:t>浸すように床をふき取ります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分程度放置後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水拭きを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191120"/>
            <a:ext cx="40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④</a:t>
            </a:r>
            <a:r>
              <a:rPr b="1" lang="ja-JP" sz="1800" spc="-1" strike="noStrike">
                <a:solidFill>
                  <a:srgbClr val="ff00ff"/>
                </a:solidFill>
                <a:latin typeface="ＭＳ Ｐゴシック"/>
              </a:rPr>
              <a:t>汚染物と消毒に使用したもののすべて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を別のビニール袋に入れ、袋の口をしばり廃棄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276720" y="4829040"/>
            <a:ext cx="1981080" cy="1339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57440" y="-4680"/>
            <a:ext cx="47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cc"/>
                </a:solidFill>
                <a:latin typeface="Times New Roman"/>
                <a:ea typeface="HGP創英角ｺﾞｼｯｸUB"/>
              </a:rPr>
              <a:t>☆</a:t>
            </a:r>
            <a:r>
              <a:rPr b="1" lang="ja-JP" sz="3200" spc="-1" strike="noStrike">
                <a:solidFill>
                  <a:srgbClr val="3333cc"/>
                </a:solidFill>
                <a:latin typeface="Times New Roman"/>
                <a:ea typeface="HGP創英角ｺﾞｼｯｸUB"/>
              </a:rPr>
              <a:t>おう吐物の処理方法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6219720"/>
            <a:ext cx="6324480" cy="60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処理したあとは、しっかりと手洗い、うがいをしましょう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33:07Z</dcterms:created>
  <dc:creator>株式会社エバルス</dc:creator>
  <dc:description/>
  <dc:language>en-US</dc:language>
  <cp:lastModifiedBy>株式会社エバルス</cp:lastModifiedBy>
  <dcterms:modified xsi:type="dcterms:W3CDTF">2010-01-25T04:37:24Z</dcterms:modified>
  <cp:revision>4</cp:revision>
  <dc:subject/>
  <dc:title>PowerPoint プレゼンテーション</dc:title>
</cp:coreProperties>
</file>